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05C-5203-45B5-827A-BA701A47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572-817B-4799-832E-4644AA19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26D-5763-4B4A-8353-514F247D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AAF-F284-409D-8FBE-DC603493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7A62-7AF2-4BDE-86F9-13C39071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F65E-08C2-4724-AD9B-486C0903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4153-B91F-4547-BBAB-EACC8B4F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99C0-BE2E-4952-9F75-1F34F405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7FAE-58D9-4968-BF2A-B2DD82C2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BE26-8908-46C6-B903-6633F89C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3539-CDB2-4A5C-9548-FC9F2F15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EAE-7DA8-4A08-AB25-A5F56185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F897-892A-430F-B57A-7010AB7B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19C2-BC4A-46AD-8021-9CB16736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0B55-2C5B-4ED9-AC9A-7AC96D13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BAE1-4C0F-459A-B015-10B77388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865E-AD4F-4FD2-B674-7BFE3E6C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6BE-FB89-4522-9E09-53E00EAF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A49-6A1F-4AFE-A115-1B090231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A7D-0279-472C-8B38-D06C82BA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D60-DC3A-4481-9FA1-63F3BD3A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DBE-1BC0-4399-973D-FA3AFA57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D14-606F-4686-A49A-2C9466B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10D-F1BE-4D0D-815C-252DCF86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C1E3-C7AC-4C90-BCCF-5D617991F89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DEFB-CEB6-4A47-B9FB-3B955EF8A61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SECURITY ADMINIS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NIOR EXECUTIVE SERVICE CANDIDATE DEVELOPMENT              PROGR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Adminis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 Candidate Develop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First and Foremost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Agency Head Support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Extensive ERB Involvement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36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304560"/>
            <a:ext cx="715788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Adminis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 Candidate Develop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en Government-wi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75% Placement Ra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or Classes -  35-40 Selecte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ass IV starts July 1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49 Selecte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19920" y="4724280"/>
            <a:ext cx="2361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Adminis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 Candidate Develop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18-24 month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S-14s and GS-15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ent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velopment Pl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ther Learning Activit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24480" y="5105520"/>
            <a:ext cx="23623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Adminis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 Candidate Develop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rogram Requir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t least 3 developmental assign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2 MUST be 6 month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2 MUST be outside home compon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1 EXTERNAL – 4-Month Minimu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eld Component  –If no claims-related experie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Q Staff Component – If no HQ experienc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Adminis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 Candidate Develop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Program Requirements (Cont.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0-Hour Executive Level Interagency Tr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rient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re Progra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Adminis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 Candidate Develop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Other Learning Activit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ecutive Interview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ding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Learning Through Leadershi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Team Proje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ritical Project Response Tea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Quarterly Telecons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Adminis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 Candidate Develop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Evaluation Instru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pplicant Qualifications Stat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ecutive Traits Questionnai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upvy Evaluation of Executive Trai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puty Commissioner Recommend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essment Cent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Adminis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 Candidate Develop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QUESTIONS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38680" y="4419720"/>
            <a:ext cx="23623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5:52:16Z</dcterms:created>
  <dc:creator>Bonnie L. Doyle</dc:creator>
  <dc:description/>
  <dc:language>en-US</dc:language>
  <cp:lastModifiedBy>Bonnie L. Doyle</cp:lastModifiedBy>
  <dcterms:modified xsi:type="dcterms:W3CDTF">2008-06-13T18:34:56Z</dcterms:modified>
  <cp:revision>11</cp:revision>
  <dc:subject/>
  <dc:title>SOCIAL SECURITY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67953567</vt:r8>
  </property>
  <property fmtid="{D5CDD505-2E9C-101B-9397-08002B2CF9AE}" pid="3" name="_AuthorEmail">
    <vt:lpwstr>Bonnie.Doyle@ssa.gov</vt:lpwstr>
  </property>
  <property fmtid="{D5CDD505-2E9C-101B-9397-08002B2CF9AE}" pid="4" name="_AuthorEmailDisplayName">
    <vt:lpwstr>Doyle, Bonnie  HQ DCHR</vt:lpwstr>
  </property>
  <property fmtid="{D5CDD505-2E9C-101B-9397-08002B2CF9AE}" pid="5" name="_EmailSubject">
    <vt:lpwstr>Candidate Development Program Roundtable</vt:lpwstr>
  </property>
  <property fmtid="{D5CDD505-2E9C-101B-9397-08002B2CF9AE}" pid="6" name="_NewReviewCycle">
    <vt:lpwstr/>
  </property>
</Properties>
</file>