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9.wmf" ContentType="image/x-wmf"/>
  <Override PartName="/ppt/media/image14.png" ContentType="image/png"/>
  <Override PartName="/ppt/media/image8.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FDB27-CD14-477C-8900-27005E8CB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3"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5CFB6-0FBA-463B-A085-07BDEA3B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6"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A8D2D-5387-4D07-A5A1-FEA91A38A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41"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B3672-BC71-4E90-9A9C-F49CD2EAF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CC1F9-4A87-4221-81CD-42FD7FD0C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61"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EC34B-A327-4F77-9CB9-6E9489E0F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63"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2AAA9-83B9-4A06-BE57-D9B7B6119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65"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69B58-0B85-4D67-BDBB-2855CCA71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7B8AF-D8B5-44D6-8629-4B9391DE8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D2E5F-EC3E-41DB-9D88-8187C5555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70"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D85CF-725B-4B78-B481-2D193547D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2"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541C9-7C03-4303-B317-74B859665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74"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2EE8-6E0B-4D92-B6E6-96FE875DF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78"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88941-5E19-441D-BF02-35B43A95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82"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AE4E5-CB72-439E-BC92-9BDDA3FB9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85"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2C2F0-A1BD-41BC-9B02-5E3ADE12A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90"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5ED87-9032-492B-A0B8-96F045790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5CEA8-8C55-4A8B-95BB-A7E41FED5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10"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36B66-0DFF-493D-B667-02FADB5F3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12"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EBDA9-979A-4DBA-9196-68D947071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14"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4BBFA-30A7-40DF-8C8B-5DFA025E0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51CF0-C3BA-456E-9413-682D5EFBE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4"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5A36-B5EE-4CFE-A192-DFD8DC38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F350F-573C-4E74-BBDE-65ED9DA4F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19"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B1F08-1BD1-48D2-B5E0-ECDA6AAC6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23"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8C463-18B4-493F-8C3B-D314A46CE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27"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03523-48EE-4716-9B50-502C6660D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31"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04F6E-416E-4C26-96D6-4BEAAFF59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34"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20F7C9-8536-4B58-AFEB-9DE567DAC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39"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31DB4-4E82-4E01-93A5-85C66604D2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F4A671-8F1F-4EBC-AC31-564F78E4C1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57"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45978A-3617-4E70-B120-093F4E028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59"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74C97B-52BE-4C4E-A4F2-9118CD15F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6"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154D-4E12-4EED-9FA0-57AEA835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61"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74474-0177-4657-A09E-7378064B1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4560B-08F4-43A2-8A71-B40BDC40A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38369-1E00-4602-9B6D-2110C3D57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66"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105F3-1E2C-4899-86F6-5DA6385C7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70"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74D44-3CE8-49CB-98D2-6C819B0FF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74"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D13B3-B5EA-4B82-A93B-22926290C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78"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E7D0A-D9A4-4914-83C7-FE4D81164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81"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50A2E-E0A0-41B8-9BFD-15105BADE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86"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040436-2F08-4AEE-AAF3-0E7A56DF99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797AAD-C6F9-4742-9531-583217779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7FA4E-2E93-4B90-BD2A-2D1DC983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198"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E4C5E-39F4-4E02-BD28-4AFDABD0A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00"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063DD-F481-40C3-AA95-D34149D1B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02"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0E5E3-18BC-437B-B14E-8C93817F0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175F3-BCC3-457E-8F07-CD683F4D2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EDA79-16DB-408D-806D-5744A46D7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07"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C4EE3-04FA-4C5B-992E-92D424343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11"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1E9AD-4D20-4CE7-A5FF-828C80088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15"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14A11-63BC-4BDF-BA89-4F34A222D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19"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14478-2AA5-4812-80B4-473CAFA52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22"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77BCC3-3617-4B8F-96E7-010E4AE478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F5CB-A424-4C00-A347-74BCA51BC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27"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088741-4F6D-4922-8380-F02A4B52BB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DA99F-F6A8-4404-B203-DE41537A11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45"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080A8-82AD-4022-8525-E4B9C5668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47"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4BDB8-DD22-45CF-A45B-BC22003B6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49"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38B93E-37A9-407B-8D19-018B4BB0B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A34E0-40B2-4E34-8664-D3878C119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CA5BB-C0FF-48F9-BE3D-0C2486527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54"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45EB6-DEC5-43B4-B586-745601BBE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58"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9F90D-60EC-4D62-86D2-59CC3C217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62"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0DDAD-0DB5-4C34-8A5B-F0CB56113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1"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586A-AF88-4743-BC9D-F0FEE173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66"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773FE-6B05-43FF-A98D-616743E5E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69"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F2E80-1584-4544-A627-49AED9AD27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74"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E2E72-C6E0-4BD4-8873-F4800D6584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08C5D6-F9FE-4717-9352-47AECBD54E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86"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5DF6D0-05E9-461E-94C0-7C1DC05A9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88"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B0DA1-CA1C-4E4B-AD1A-8EEE95783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90"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F32C5-F3F4-4856-9429-E488655CC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D0DF1-CE34-43AF-B2B0-384EE2996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DBED2-4F3E-4AAA-BE5A-8F5F9AF10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95"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E2CC0-1921-4CC8-BED5-65168F8B0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5"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2F32-318A-4A6A-8669-18E9BBB9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99"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11FB4-254D-4112-902A-6A03D38CD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03"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D3FC9-E4C5-4812-B55C-3A3350133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07"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80472-EB73-4B93-8AF7-7EFEED35F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10"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871808-F362-4291-A5E9-B749501B60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15"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71CDAB-9F98-4A97-8238-C8C645402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0928AD-E0F1-45D8-A719-68D903AE22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35" name="PlaceHolder 2"/>
          <p:cNvSpPr>
            <a:spLocks noGrp="1"/>
          </p:cNvSpPr>
          <p:nvPr>
            <p:ph type="subTitle"/>
          </p:nvPr>
        </p:nvSpPr>
        <p:spPr>
          <a:xfrm>
            <a:off x="342720" y="1974600"/>
            <a:ext cx="6172200" cy="603396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09468-B540-4115-BB2A-68DFC47278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37" name="PlaceHolder 2"/>
          <p:cNvSpPr>
            <a:spLocks noGrp="1"/>
          </p:cNvSpPr>
          <p:nvPr>
            <p:ph/>
          </p:nvPr>
        </p:nvSpPr>
        <p:spPr>
          <a:xfrm>
            <a:off x="342720" y="1974600"/>
            <a:ext cx="617220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EB15C-609C-4D76-90D8-A0B93182B8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39"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0A37B-D40E-4E09-BE9E-13F81FC12F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BE9B9-A8A8-4AE7-94CB-50D9D09FC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29"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0C9A-95E1-44BE-9284-5BC575178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C97FD-58E7-4264-B96B-605B5D2C65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44"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35053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32C0D7-8845-4D36-BD60-D5740A5A0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48" name="PlaceHolder 2"/>
          <p:cNvSpPr>
            <a:spLocks noGrp="1"/>
          </p:cNvSpPr>
          <p:nvPr>
            <p:ph/>
          </p:nvPr>
        </p:nvSpPr>
        <p:spPr>
          <a:xfrm>
            <a:off x="342720" y="1974600"/>
            <a:ext cx="3011760" cy="60339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B9E27-7ED1-40E4-AF89-840908A58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52"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5EA9D-55E7-4D44-A6D6-4B6C398266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56" name="PlaceHolder 2"/>
          <p:cNvSpPr>
            <a:spLocks noGrp="1"/>
          </p:cNvSpPr>
          <p:nvPr>
            <p:ph/>
          </p:nvPr>
        </p:nvSpPr>
        <p:spPr>
          <a:xfrm>
            <a:off x="342720" y="19746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42720" y="5126400"/>
            <a:ext cx="6172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20F60-94C4-4009-90E2-9CB437DC26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59" name="PlaceHolder 2"/>
          <p:cNvSpPr>
            <a:spLocks noGrp="1"/>
          </p:cNvSpPr>
          <p:nvPr>
            <p:ph/>
          </p:nvPr>
        </p:nvSpPr>
        <p:spPr>
          <a:xfrm>
            <a:off x="3427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3505320" y="19746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3427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3505320" y="5126400"/>
            <a:ext cx="301176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EF369F-21A1-4A25-BEF7-262B7BDFF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44d26"/>
              </a:solidFill>
              <a:latin typeface="Lucida Sans Unicode"/>
            </a:endParaRPr>
          </a:p>
        </p:txBody>
      </p:sp>
      <p:sp>
        <p:nvSpPr>
          <p:cNvPr id="364" name="PlaceHolder 2"/>
          <p:cNvSpPr>
            <a:spLocks noGrp="1"/>
          </p:cNvSpPr>
          <p:nvPr>
            <p:ph/>
          </p:nvPr>
        </p:nvSpPr>
        <p:spPr>
          <a:xfrm>
            <a:off x="34272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242964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16560" y="19746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34272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242964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4516560" y="5126400"/>
            <a:ext cx="1987200" cy="2877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0994ED-2ED9-4970-BB6A-228BF32BB5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374760" y="7926480"/>
            <a:ext cx="3705120" cy="1228680"/>
          </a:xfrm>
          <a:custGeom>
            <a:avLst/>
            <a:gdLst>
              <a:gd name="textAreaLeft" fmla="*/ 0 w 3705120"/>
              <a:gd name="textAreaRight" fmla="*/ 3705480 w 3705120"/>
              <a:gd name="textAreaTop" fmla="*/ 0 h 1228680"/>
              <a:gd name="textAreaBottom" fmla="*/ 1229040 h 1228680"/>
            </a:gdLst>
            <a:ahLst/>
            <a:rect l="textAreaLeft" t="textAreaTop" r="textAreaRight" b="textAreaBottom"/>
            <a:pathLst>
              <a:path w="7485" h="337">
                <a:moveTo>
                  <a:pt x="0" y="2"/>
                </a:moveTo>
                <a:lnTo>
                  <a:pt x="7485" y="337"/>
                </a:lnTo>
                <a:lnTo>
                  <a:pt x="5558" y="337"/>
                </a:lnTo>
                <a:lnTo>
                  <a:pt x="1" y="0"/>
                </a:lnTo>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363600" y="7918560"/>
            <a:ext cx="2768400" cy="1244520"/>
          </a:xfrm>
          <a:custGeom>
            <a:avLst/>
            <a:gdLst>
              <a:gd name="textAreaLeft" fmla="*/ 0 w 2768400"/>
              <a:gd name="textAreaRight" fmla="*/ 2768400 w 2768400"/>
              <a:gd name="textAreaTop" fmla="*/ 0 h 1244520"/>
              <a:gd name="textAreaBottom" fmla="*/ 1244880 h 124452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7716960"/>
            <a:ext cx="2566800" cy="1450800"/>
            <a:chOff x="-12600" y="7716960"/>
            <a:chExt cx="2566800" cy="1450800"/>
          </a:xfrm>
        </p:grpSpPr>
        <p:pic>
          <p:nvPicPr>
            <p:cNvPr id="3" name="Right Triangle 13" descr=""/>
            <p:cNvPicPr/>
            <p:nvPr/>
          </p:nvPicPr>
          <p:blipFill>
            <a:blip r:embed="rId2"/>
            <a:stretch/>
          </p:blipFill>
          <p:spPr>
            <a:xfrm>
              <a:off x="-12600" y="7716960"/>
              <a:ext cx="2566800" cy="1450800"/>
            </a:xfrm>
            <a:prstGeom prst="rect">
              <a:avLst/>
            </a:prstGeom>
            <a:ln w="0">
              <a:noFill/>
            </a:ln>
          </p:spPr>
        </p:pic>
        <p:sp>
          <p:nvSpPr>
            <p:cNvPr id="4" name=""/>
            <p:cNvSpPr/>
            <p:nvPr/>
          </p:nvSpPr>
          <p:spPr>
            <a:xfrm>
              <a:off x="208080" y="8562960"/>
              <a:ext cx="127620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7705800"/>
            <a:ext cx="2566800" cy="1468440"/>
          </a:xfrm>
          <a:prstGeom prst="rect">
            <a:avLst/>
          </a:prstGeom>
          <a:ln w="0">
            <a:noFill/>
          </a:ln>
        </p:spPr>
      </p:pic>
      <p:sp>
        <p:nvSpPr>
          <p:cNvPr id="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44d26"/>
                </a:solidFill>
                <a:latin typeface="Lucida Sans Unicode"/>
              </a:rPr>
              <a:t>Click to edit the title text format</a:t>
            </a:r>
            <a:endParaRPr b="1" lang="en-US" sz="4100" spc="-1" strike="noStrike">
              <a:solidFill>
                <a:srgbClr val="444d26"/>
              </a:solidFill>
              <a:latin typeface="Lucida Sans Unicode"/>
            </a:endParaRPr>
          </a:p>
        </p:txBody>
      </p:sp>
      <p:sp>
        <p:nvSpPr>
          <p:cNvPr id="7"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3B20-BA14-4E15-B28A-4CF77A6DD5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6218280"/>
            <a:ext cx="6862680" cy="360"/>
          </a:xfrm>
          <a:prstGeom prst="rtTriangle">
            <a:avLst/>
          </a:prstGeom>
          <a:gradFill rotWithShape="0">
            <a:gsLst>
              <a:gs pos="0">
                <a:srgbClr val="667851"/>
              </a:gs>
              <a:gs pos="50000">
                <a:srgbClr val="b1c59a"/>
              </a:gs>
              <a:gs pos="100000">
                <a:srgbClr val="667851"/>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
          <p:cNvGrpSpPr/>
          <p:nvPr/>
        </p:nvGrpSpPr>
        <p:grpSpPr>
          <a:xfrm>
            <a:off x="-3240" y="6603840"/>
            <a:ext cx="6861240" cy="2549520"/>
            <a:chOff x="-3240" y="6603840"/>
            <a:chExt cx="6861240" cy="2549520"/>
          </a:xfrm>
        </p:grpSpPr>
        <p:sp>
          <p:nvSpPr>
            <p:cNvPr id="49" name="Freeform 6"/>
            <p:cNvSpPr/>
            <p:nvPr/>
          </p:nvSpPr>
          <p:spPr>
            <a:xfrm>
              <a:off x="1265760" y="6603840"/>
              <a:ext cx="5580360" cy="648720"/>
            </a:xfrm>
            <a:custGeom>
              <a:avLst/>
              <a:gdLst>
                <a:gd name="textAreaLeft" fmla="*/ 0 w 5580360"/>
                <a:gd name="textAreaRight" fmla="*/ 5580720 w 5580360"/>
                <a:gd name="textAreaTop" fmla="*/ 0 h 648720"/>
                <a:gd name="textAreaBottom" fmla="*/ 648720 h 648720"/>
              </a:gdLst>
              <a:ahLst/>
              <a:rect l="textAreaLeft" t="textAreaTop" r="textAreaRight" b="textAreaBottom"/>
              <a:pathLst>
                <a:path w="4697" h="367">
                  <a:moveTo>
                    <a:pt x="4697" y="0"/>
                  </a:moveTo>
                  <a:lnTo>
                    <a:pt x="4697" y="367"/>
                  </a:lnTo>
                  <a:lnTo>
                    <a:pt x="0" y="218"/>
                  </a:lnTo>
                  <a:lnTo>
                    <a:pt x="4697" y="0"/>
                  </a:lnTo>
                  <a:close/>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7"/>
            <p:cNvSpPr/>
            <p:nvPr/>
          </p:nvSpPr>
          <p:spPr>
            <a:xfrm>
              <a:off x="29160" y="6982200"/>
              <a:ext cx="6816600" cy="1047960"/>
            </a:xfrm>
            <a:custGeom>
              <a:avLst/>
              <a:gdLst>
                <a:gd name="textAreaLeft" fmla="*/ 0 w 6816600"/>
                <a:gd name="textAreaRight" fmla="*/ 6816960 w 6816600"/>
                <a:gd name="textAreaTop" fmla="*/ 0 h 1047960"/>
                <a:gd name="textAreaBottom" fmla="*/ 1048320 h 10479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0"/>
            <p:cNvGrpSpPr/>
            <p:nvPr/>
          </p:nvGrpSpPr>
          <p:grpSpPr>
            <a:xfrm>
              <a:off x="-3240" y="6662520"/>
              <a:ext cx="6855480" cy="2490840"/>
              <a:chOff x="-3240" y="6662520"/>
              <a:chExt cx="6855480" cy="2490840"/>
            </a:xfrm>
          </p:grpSpPr>
          <p:pic>
            <p:nvPicPr>
              <p:cNvPr id="52" name="Freeform 10" descr=""/>
              <p:cNvPicPr/>
              <p:nvPr/>
            </p:nvPicPr>
            <p:blipFill>
              <a:blip r:embed="rId2"/>
              <a:stretch/>
            </p:blipFill>
            <p:spPr>
              <a:xfrm>
                <a:off x="-3240" y="6662520"/>
                <a:ext cx="6855480" cy="2490840"/>
              </a:xfrm>
              <a:prstGeom prst="rect">
                <a:avLst/>
              </a:prstGeom>
              <a:ln w="0">
                <a:noFill/>
              </a:ln>
            </p:spPr>
          </p:pic>
          <p:sp>
            <p:nvSpPr>
              <p:cNvPr id="53" name=""/>
              <p:cNvSpPr/>
              <p:nvPr/>
            </p:nvSpPr>
            <p:spPr>
              <a:xfrm>
                <a:off x="2520" y="66672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1" descr=""/>
            <p:cNvPicPr/>
            <p:nvPr/>
          </p:nvPicPr>
          <p:blipFill>
            <a:blip r:embed="rId3"/>
            <a:stretch/>
          </p:blipFill>
          <p:spPr>
            <a:xfrm>
              <a:off x="-3240" y="6650280"/>
              <a:ext cx="6861240" cy="1075320"/>
            </a:xfrm>
            <a:prstGeom prst="rect">
              <a:avLst/>
            </a:prstGeom>
            <a:ln w="0">
              <a:noFill/>
            </a:ln>
          </p:spPr>
        </p:pic>
      </p:grpSp>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44d26"/>
                </a:solidFill>
                <a:latin typeface="Lucida Sans Unicode"/>
              </a:rPr>
              <a:t>Click to edit the title text format</a:t>
            </a:r>
            <a:endParaRPr b="1" lang="en-US" sz="4100" spc="-1" strike="noStrike">
              <a:solidFill>
                <a:srgbClr val="444d26"/>
              </a:solidFill>
              <a:latin typeface="Lucida Sans Unicode"/>
            </a:endParaRPr>
          </a:p>
        </p:txBody>
      </p:sp>
      <p:sp>
        <p:nvSpPr>
          <p:cNvPr id="56"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5045040" y="8543880"/>
            <a:ext cx="14400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6484680" y="8543880"/>
            <a:ext cx="27468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622B-6983-46A2-96A2-4D8C02D854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374760" y="7926480"/>
            <a:ext cx="3705120" cy="1228680"/>
          </a:xfrm>
          <a:custGeom>
            <a:avLst/>
            <a:gdLst>
              <a:gd name="textAreaLeft" fmla="*/ 0 w 3705120"/>
              <a:gd name="textAreaRight" fmla="*/ 3705480 w 3705120"/>
              <a:gd name="textAreaTop" fmla="*/ 0 h 1228680"/>
              <a:gd name="textAreaBottom" fmla="*/ 1229040 h 1228680"/>
            </a:gdLst>
            <a:ahLst/>
            <a:rect l="textAreaLeft" t="textAreaTop" r="textAreaRight" b="textAreaBottom"/>
            <a:pathLst>
              <a:path w="7485" h="337">
                <a:moveTo>
                  <a:pt x="0" y="2"/>
                </a:moveTo>
                <a:lnTo>
                  <a:pt x="7485" y="337"/>
                </a:lnTo>
                <a:lnTo>
                  <a:pt x="5558" y="337"/>
                </a:lnTo>
                <a:lnTo>
                  <a:pt x="1" y="0"/>
                </a:lnTo>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363600" y="7918560"/>
            <a:ext cx="2768400" cy="1244520"/>
          </a:xfrm>
          <a:custGeom>
            <a:avLst/>
            <a:gdLst>
              <a:gd name="textAreaLeft" fmla="*/ 0 w 2768400"/>
              <a:gd name="textAreaRight" fmla="*/ 2768400 w 2768400"/>
              <a:gd name="textAreaTop" fmla="*/ 0 h 1244520"/>
              <a:gd name="textAreaBottom" fmla="*/ 1244880 h 124452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7716960"/>
            <a:ext cx="2566800" cy="1450800"/>
            <a:chOff x="-12600" y="7716960"/>
            <a:chExt cx="2566800" cy="1450800"/>
          </a:xfrm>
        </p:grpSpPr>
        <p:pic>
          <p:nvPicPr>
            <p:cNvPr id="99" name="Right Triangle 13" descr=""/>
            <p:cNvPicPr/>
            <p:nvPr/>
          </p:nvPicPr>
          <p:blipFill>
            <a:blip r:embed="rId3"/>
            <a:stretch/>
          </p:blipFill>
          <p:spPr>
            <a:xfrm>
              <a:off x="-12600" y="7716960"/>
              <a:ext cx="2566800" cy="1450800"/>
            </a:xfrm>
            <a:prstGeom prst="rect">
              <a:avLst/>
            </a:prstGeom>
            <a:ln w="0">
              <a:noFill/>
            </a:ln>
          </p:spPr>
        </p:pic>
        <p:sp>
          <p:nvSpPr>
            <p:cNvPr id="100" name=""/>
            <p:cNvSpPr/>
            <p:nvPr/>
          </p:nvSpPr>
          <p:spPr>
            <a:xfrm>
              <a:off x="208080" y="8562960"/>
              <a:ext cx="127620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7705800"/>
            <a:ext cx="2566800" cy="1468440"/>
          </a:xfrm>
          <a:prstGeom prst="rect">
            <a:avLst/>
          </a:prstGeom>
          <a:ln w="0">
            <a:noFill/>
          </a:ln>
        </p:spPr>
      </p:pic>
      <p:sp>
        <p:nvSpPr>
          <p:cNvPr id="102" name="Chevron 6"/>
          <p:cNvSpPr/>
          <p:nvPr/>
        </p:nvSpPr>
        <p:spPr>
          <a:xfrm>
            <a:off x="2727360" y="4006800"/>
            <a:ext cx="138240" cy="304920"/>
          </a:xfrm>
          <a:custGeom>
            <a:avLst/>
            <a:gdLst>
              <a:gd name="textAreaLeft" fmla="*/ 0 w 138240"/>
              <a:gd name="textAreaRight" fmla="*/ 138600 w 13824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839370"/>
              </a:gs>
              <a:gs pos="100000">
                <a:srgbClr val="c0ceb0"/>
              </a:gs>
            </a:gsLst>
            <a:lin ang="16200000"/>
          </a:gradFill>
          <a:ln cap="rnd" w="3240">
            <a:solidFill>
              <a:srgbClr val="78846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7"/>
          <p:cNvSpPr/>
          <p:nvPr/>
        </p:nvSpPr>
        <p:spPr>
          <a:xfrm>
            <a:off x="2587680" y="4006800"/>
            <a:ext cx="136440" cy="304920"/>
          </a:xfrm>
          <a:custGeom>
            <a:avLst/>
            <a:gdLst>
              <a:gd name="textAreaLeft" fmla="*/ 0 w 136440"/>
              <a:gd name="textAreaRight" fmla="*/ 136800 w 136440"/>
              <a:gd name="textAreaTop" fmla="*/ 0 h 304920"/>
              <a:gd name="textAreaBottom" fmla="*/ 305280 h 304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839370"/>
              </a:gs>
              <a:gs pos="100000">
                <a:srgbClr val="c0ceb0"/>
              </a:gs>
            </a:gsLst>
            <a:lin ang="16200000"/>
          </a:gradFill>
          <a:ln cap="rnd" w="3240">
            <a:solidFill>
              <a:srgbClr val="78846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efac9"/>
                </a:solidFill>
                <a:latin typeface="Lucida Sans Unicode"/>
              </a:rPr>
              <a:t>Click to edit the title text format</a:t>
            </a:r>
            <a:endParaRPr b="1" lang="en-US" sz="4100" spc="-1" strike="noStrike">
              <a:solidFill>
                <a:srgbClr val="fefac9"/>
              </a:solidFill>
              <a:latin typeface="Lucida Sans Unicode"/>
            </a:endParaRPr>
          </a:p>
        </p:txBody>
      </p:sp>
      <p:sp>
        <p:nvSpPr>
          <p:cNvPr id="105"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FC68-3049-4557-9287-CBF7FE7076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374760" y="7926480"/>
            <a:ext cx="3705120" cy="1228680"/>
          </a:xfrm>
          <a:custGeom>
            <a:avLst/>
            <a:gdLst>
              <a:gd name="textAreaLeft" fmla="*/ 0 w 3705120"/>
              <a:gd name="textAreaRight" fmla="*/ 3705480 w 3705120"/>
              <a:gd name="textAreaTop" fmla="*/ 0 h 1228680"/>
              <a:gd name="textAreaBottom" fmla="*/ 1229040 h 1228680"/>
            </a:gdLst>
            <a:ahLst/>
            <a:rect l="textAreaLeft" t="textAreaTop" r="textAreaRight" b="textAreaBottom"/>
            <a:pathLst>
              <a:path w="7485" h="337">
                <a:moveTo>
                  <a:pt x="0" y="2"/>
                </a:moveTo>
                <a:lnTo>
                  <a:pt x="7485" y="337"/>
                </a:lnTo>
                <a:lnTo>
                  <a:pt x="5558" y="337"/>
                </a:lnTo>
                <a:lnTo>
                  <a:pt x="1" y="0"/>
                </a:lnTo>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363600" y="7918560"/>
            <a:ext cx="2768400" cy="1244520"/>
          </a:xfrm>
          <a:custGeom>
            <a:avLst/>
            <a:gdLst>
              <a:gd name="textAreaLeft" fmla="*/ 0 w 2768400"/>
              <a:gd name="textAreaRight" fmla="*/ 2768400 w 2768400"/>
              <a:gd name="textAreaTop" fmla="*/ 0 h 1244520"/>
              <a:gd name="textAreaBottom" fmla="*/ 1244880 h 124452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7716960"/>
            <a:ext cx="2566800" cy="1450800"/>
            <a:chOff x="-12600" y="7716960"/>
            <a:chExt cx="2566800" cy="1450800"/>
          </a:xfrm>
        </p:grpSpPr>
        <p:pic>
          <p:nvPicPr>
            <p:cNvPr id="148" name="Right Triangle 13" descr=""/>
            <p:cNvPicPr/>
            <p:nvPr/>
          </p:nvPicPr>
          <p:blipFill>
            <a:blip r:embed="rId3"/>
            <a:stretch/>
          </p:blipFill>
          <p:spPr>
            <a:xfrm>
              <a:off x="-12600" y="7716960"/>
              <a:ext cx="2566800" cy="1450800"/>
            </a:xfrm>
            <a:prstGeom prst="rect">
              <a:avLst/>
            </a:prstGeom>
            <a:ln w="0">
              <a:noFill/>
            </a:ln>
          </p:spPr>
        </p:pic>
        <p:sp>
          <p:nvSpPr>
            <p:cNvPr id="149" name=""/>
            <p:cNvSpPr/>
            <p:nvPr/>
          </p:nvSpPr>
          <p:spPr>
            <a:xfrm>
              <a:off x="208080" y="8562960"/>
              <a:ext cx="127620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7705800"/>
            <a:ext cx="2566800" cy="1468440"/>
          </a:xfrm>
          <a:prstGeom prst="rect">
            <a:avLst/>
          </a:prstGeom>
          <a:ln w="0">
            <a:noFill/>
          </a:ln>
        </p:spPr>
      </p:pic>
      <p:sp>
        <p:nvSpPr>
          <p:cNvPr id="1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efac9"/>
                </a:solidFill>
                <a:latin typeface="Lucida Sans Unicode"/>
              </a:rPr>
              <a:t>Click to edit the title text format</a:t>
            </a:r>
            <a:endParaRPr b="1" lang="en-US" sz="4100" spc="-1" strike="noStrike">
              <a:solidFill>
                <a:srgbClr val="fefac9"/>
              </a:solidFill>
              <a:latin typeface="Lucida Sans Unicode"/>
            </a:endParaRPr>
          </a:p>
        </p:txBody>
      </p:sp>
      <p:sp>
        <p:nvSpPr>
          <p:cNvPr id="152"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2F1D-9F6D-43AA-9AF9-403A134431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44d26"/>
                </a:solidFill>
                <a:latin typeface="Lucida Sans Unicode"/>
              </a:rPr>
              <a:t>Click to edit the title text format</a:t>
            </a:r>
            <a:endParaRPr b="1" lang="en-US" sz="4100" spc="-1" strike="noStrike">
              <a:solidFill>
                <a:srgbClr val="444d26"/>
              </a:solidFill>
              <a:latin typeface="Lucida Sans Unicode"/>
            </a:endParaRPr>
          </a:p>
        </p:txBody>
      </p:sp>
      <p:sp>
        <p:nvSpPr>
          <p:cNvPr id="193"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B759-3255-4098-BC43-140B7E8818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374760" y="7926480"/>
            <a:ext cx="3705120" cy="1228680"/>
          </a:xfrm>
          <a:custGeom>
            <a:avLst/>
            <a:gdLst>
              <a:gd name="textAreaLeft" fmla="*/ 0 w 3705120"/>
              <a:gd name="textAreaRight" fmla="*/ 3705480 w 3705120"/>
              <a:gd name="textAreaTop" fmla="*/ 0 h 1228680"/>
              <a:gd name="textAreaBottom" fmla="*/ 1229040 h 1228680"/>
            </a:gdLst>
            <a:ahLst/>
            <a:rect l="textAreaLeft" t="textAreaTop" r="textAreaRight" b="textAreaBottom"/>
            <a:pathLst>
              <a:path w="7485" h="337">
                <a:moveTo>
                  <a:pt x="0" y="2"/>
                </a:moveTo>
                <a:lnTo>
                  <a:pt x="7485" y="337"/>
                </a:lnTo>
                <a:lnTo>
                  <a:pt x="5558" y="337"/>
                </a:lnTo>
                <a:lnTo>
                  <a:pt x="1" y="0"/>
                </a:lnTo>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363600" y="7918560"/>
            <a:ext cx="2768400" cy="1244520"/>
          </a:xfrm>
          <a:custGeom>
            <a:avLst/>
            <a:gdLst>
              <a:gd name="textAreaLeft" fmla="*/ 0 w 2768400"/>
              <a:gd name="textAreaRight" fmla="*/ 2768400 w 2768400"/>
              <a:gd name="textAreaTop" fmla="*/ 0 h 1244520"/>
              <a:gd name="textAreaBottom" fmla="*/ 1244880 h 124452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7716960"/>
            <a:ext cx="2566800" cy="1450800"/>
            <a:chOff x="-12600" y="7716960"/>
            <a:chExt cx="2566800" cy="1450800"/>
          </a:xfrm>
        </p:grpSpPr>
        <p:pic>
          <p:nvPicPr>
            <p:cNvPr id="236" name="Right Triangle 13" descr=""/>
            <p:cNvPicPr/>
            <p:nvPr/>
          </p:nvPicPr>
          <p:blipFill>
            <a:blip r:embed="rId3"/>
            <a:stretch/>
          </p:blipFill>
          <p:spPr>
            <a:xfrm>
              <a:off x="-12600" y="7716960"/>
              <a:ext cx="2566800" cy="1450800"/>
            </a:xfrm>
            <a:prstGeom prst="rect">
              <a:avLst/>
            </a:prstGeom>
            <a:ln w="0">
              <a:noFill/>
            </a:ln>
          </p:spPr>
        </p:pic>
        <p:sp>
          <p:nvSpPr>
            <p:cNvPr id="237" name=""/>
            <p:cNvSpPr/>
            <p:nvPr/>
          </p:nvSpPr>
          <p:spPr>
            <a:xfrm>
              <a:off x="208080" y="8562960"/>
              <a:ext cx="127620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7705800"/>
            <a:ext cx="2566800" cy="1468440"/>
          </a:xfrm>
          <a:prstGeom prst="rect">
            <a:avLst/>
          </a:prstGeom>
          <a:ln w="0">
            <a:noFill/>
          </a:ln>
        </p:spPr>
      </p:pic>
      <p:sp>
        <p:nvSpPr>
          <p:cNvPr id="23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efac9"/>
                </a:solidFill>
                <a:latin typeface="Lucida Sans Unicode"/>
              </a:rPr>
              <a:t>Click to edit the title text format</a:t>
            </a:r>
            <a:endParaRPr b="1" lang="en-US" sz="4100" spc="-1" strike="noStrike">
              <a:solidFill>
                <a:srgbClr val="fefac9"/>
              </a:solidFill>
              <a:latin typeface="Lucida Sans Unicode"/>
            </a:endParaRPr>
          </a:p>
        </p:txBody>
      </p:sp>
      <p:sp>
        <p:nvSpPr>
          <p:cNvPr id="240"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77FA-4B32-4FAC-A5CF-E32C218151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44d26"/>
                </a:solidFill>
                <a:latin typeface="Lucida Sans Unicode"/>
              </a:rPr>
              <a:t>Click to edit the title text format</a:t>
            </a:r>
            <a:endParaRPr b="1" lang="en-US" sz="4100" spc="-1" strike="noStrike">
              <a:solidFill>
                <a:srgbClr val="444d26"/>
              </a:solidFill>
              <a:latin typeface="Lucida Sans Unicode"/>
            </a:endParaRPr>
          </a:p>
        </p:txBody>
      </p:sp>
      <p:sp>
        <p:nvSpPr>
          <p:cNvPr id="281"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DAE4-CB59-4083-898A-EE5C6198F0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374760" y="7926480"/>
            <a:ext cx="3705120" cy="1228680"/>
          </a:xfrm>
          <a:custGeom>
            <a:avLst/>
            <a:gdLst>
              <a:gd name="textAreaLeft" fmla="*/ 0 w 3705120"/>
              <a:gd name="textAreaRight" fmla="*/ 3705480 w 3705120"/>
              <a:gd name="textAreaTop" fmla="*/ 0 h 1228680"/>
              <a:gd name="textAreaBottom" fmla="*/ 1229040 h 1228680"/>
            </a:gdLst>
            <a:ahLst/>
            <a:rect l="textAreaLeft" t="textAreaTop" r="textAreaRight" b="textAreaBottom"/>
            <a:pathLst>
              <a:path w="7485" h="337">
                <a:moveTo>
                  <a:pt x="0" y="2"/>
                </a:moveTo>
                <a:lnTo>
                  <a:pt x="7485" y="337"/>
                </a:lnTo>
                <a:lnTo>
                  <a:pt x="5558" y="337"/>
                </a:lnTo>
                <a:lnTo>
                  <a:pt x="1" y="0"/>
                </a:lnTo>
              </a:path>
            </a:pathLst>
          </a:custGeom>
          <a:solidFill>
            <a:srgbClr val="cbd4c0">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8"/>
          <p:cNvSpPr/>
          <p:nvPr/>
        </p:nvSpPr>
        <p:spPr>
          <a:xfrm>
            <a:off x="363600" y="7918560"/>
            <a:ext cx="2768400" cy="1244520"/>
          </a:xfrm>
          <a:custGeom>
            <a:avLst/>
            <a:gdLst>
              <a:gd name="textAreaLeft" fmla="*/ 0 w 2768400"/>
              <a:gd name="textAreaRight" fmla="*/ 2768400 w 2768400"/>
              <a:gd name="textAreaTop" fmla="*/ 0 h 1244520"/>
              <a:gd name="textAreaBottom" fmla="*/ 1244880 h 124452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9"/>
          <p:cNvGrpSpPr/>
          <p:nvPr/>
        </p:nvGrpSpPr>
        <p:grpSpPr>
          <a:xfrm>
            <a:off x="-12600" y="7716960"/>
            <a:ext cx="2566800" cy="1450800"/>
            <a:chOff x="-12600" y="7716960"/>
            <a:chExt cx="2566800" cy="1450800"/>
          </a:xfrm>
        </p:grpSpPr>
        <p:pic>
          <p:nvPicPr>
            <p:cNvPr id="324" name="Right Triangle 9" descr=""/>
            <p:cNvPicPr/>
            <p:nvPr/>
          </p:nvPicPr>
          <p:blipFill>
            <a:blip r:embed="rId3"/>
            <a:stretch/>
          </p:blipFill>
          <p:spPr>
            <a:xfrm>
              <a:off x="-12600" y="7716960"/>
              <a:ext cx="2566800" cy="1450800"/>
            </a:xfrm>
            <a:prstGeom prst="rect">
              <a:avLst/>
            </a:prstGeom>
            <a:ln w="0">
              <a:noFill/>
            </a:ln>
          </p:spPr>
        </p:pic>
        <p:sp>
          <p:nvSpPr>
            <p:cNvPr id="325" name=""/>
            <p:cNvSpPr/>
            <p:nvPr/>
          </p:nvSpPr>
          <p:spPr>
            <a:xfrm>
              <a:off x="208080" y="8562960"/>
              <a:ext cx="127620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0" descr=""/>
          <p:cNvPicPr/>
          <p:nvPr/>
        </p:nvPicPr>
        <p:blipFill>
          <a:blip r:embed="rId4"/>
          <a:stretch/>
        </p:blipFill>
        <p:spPr>
          <a:xfrm>
            <a:off x="-12600" y="7705800"/>
            <a:ext cx="2566800" cy="1468440"/>
          </a:xfrm>
          <a:prstGeom prst="rect">
            <a:avLst/>
          </a:prstGeom>
          <a:ln w="0">
            <a:noFill/>
          </a:ln>
        </p:spPr>
      </p:pic>
      <p:sp>
        <p:nvSpPr>
          <p:cNvPr id="327" name="Chevron 11"/>
          <p:cNvSpPr/>
          <p:nvPr/>
        </p:nvSpPr>
        <p:spPr>
          <a:xfrm>
            <a:off x="6497640" y="6651720"/>
            <a:ext cx="138240" cy="304560"/>
          </a:xfrm>
          <a:custGeom>
            <a:avLst/>
            <a:gdLst>
              <a:gd name="textAreaLeft" fmla="*/ 0 w 138240"/>
              <a:gd name="textAreaRight" fmla="*/ 138600 w 138240"/>
              <a:gd name="textAreaTop" fmla="*/ 0 h 304560"/>
              <a:gd name="textAreaBottom" fmla="*/ 304920 h 304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839370"/>
              </a:gs>
              <a:gs pos="100000">
                <a:srgbClr val="c0ceb0"/>
              </a:gs>
            </a:gsLst>
            <a:lin ang="16200000"/>
          </a:gradFill>
          <a:ln cap="rnd" w="3240">
            <a:solidFill>
              <a:srgbClr val="78846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2"/>
          <p:cNvSpPr/>
          <p:nvPr/>
        </p:nvSpPr>
        <p:spPr>
          <a:xfrm>
            <a:off x="6357960" y="6651720"/>
            <a:ext cx="138240" cy="304560"/>
          </a:xfrm>
          <a:custGeom>
            <a:avLst/>
            <a:gdLst>
              <a:gd name="textAreaLeft" fmla="*/ 0 w 138240"/>
              <a:gd name="textAreaRight" fmla="*/ 138600 w 138240"/>
              <a:gd name="textAreaTop" fmla="*/ 0 h 304560"/>
              <a:gd name="textAreaBottom" fmla="*/ 304920 h 304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839370"/>
              </a:gs>
              <a:gs pos="100000">
                <a:srgbClr val="c0ceb0"/>
              </a:gs>
            </a:gsLst>
            <a:lin ang="16200000"/>
          </a:gradFill>
          <a:ln cap="rnd" w="3240">
            <a:solidFill>
              <a:srgbClr val="78846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efac9"/>
                </a:solidFill>
                <a:latin typeface="Lucida Sans Unicode"/>
              </a:rPr>
              <a:t>Click to edit the title text format</a:t>
            </a:r>
            <a:endParaRPr b="1" lang="en-US" sz="4100" spc="-1" strike="noStrike">
              <a:solidFill>
                <a:srgbClr val="fefac9"/>
              </a:solidFill>
              <a:latin typeface="Lucida Sans Unicode"/>
            </a:endParaRPr>
          </a:p>
        </p:txBody>
      </p:sp>
      <p:sp>
        <p:nvSpPr>
          <p:cNvPr id="330" name="PlaceHolder 2"/>
          <p:cNvSpPr>
            <a:spLocks noGrp="1"/>
          </p:cNvSpPr>
          <p:nvPr>
            <p:ph type="body"/>
          </p:nvPr>
        </p:nvSpPr>
        <p:spPr>
          <a:xfrm>
            <a:off x="342720" y="1974600"/>
            <a:ext cx="6172200" cy="603396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5045040" y="8543880"/>
            <a:ext cx="14400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3284280" y="8543880"/>
            <a:ext cx="17636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6484680" y="8543880"/>
            <a:ext cx="27468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CE5F-5565-458D-A76D-5C1EA2708B5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360360" y="450720"/>
            <a:ext cx="6173640" cy="2457720"/>
          </a:xfrm>
          <a:prstGeom prst="rect">
            <a:avLst/>
          </a:prstGeom>
          <a:ln w="0">
            <a:noFill/>
          </a:ln>
        </p:spPr>
      </p:pic>
      <p:sp>
        <p:nvSpPr>
          <p:cNvPr id="371" name="PlaceHolder 1"/>
          <p:cNvSpPr>
            <a:spLocks noGrp="1"/>
          </p:cNvSpPr>
          <p:nvPr>
            <p:ph type="subTitle"/>
          </p:nvPr>
        </p:nvSpPr>
        <p:spPr>
          <a:xfrm>
            <a:off x="685440" y="5638680"/>
            <a:ext cx="5829480" cy="45720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Lucida Sans Unicode"/>
              </a:rPr>
              <a:t>Pre-Supervisory Development Programs</a:t>
            </a:r>
            <a:endParaRPr b="0" lang="en-US" sz="2000" spc="-1" strike="noStrike">
              <a:solidFill>
                <a:srgbClr val="000000"/>
              </a:solidFill>
              <a:latin typeface="Lucida Sans Unicode"/>
            </a:endParaRPr>
          </a:p>
        </p:txBody>
      </p:sp>
      <p:pic>
        <p:nvPicPr>
          <p:cNvPr id="372" name="Picture 3" descr="epa_seal_verysmall_trim.gif"/>
          <p:cNvPicPr/>
          <p:nvPr/>
        </p:nvPicPr>
        <p:blipFill>
          <a:blip r:embed="rId2"/>
          <a:stretch/>
        </p:blipFill>
        <p:spPr>
          <a:xfrm>
            <a:off x="2666880" y="3048120"/>
            <a:ext cx="1933560" cy="193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342720" y="1974600"/>
            <a:ext cx="6172200" cy="6033960"/>
          </a:xfrm>
          <a:prstGeom prst="rect">
            <a:avLst/>
          </a:prstGeom>
          <a:noFill/>
          <a:ln w="0">
            <a:noFill/>
          </a:ln>
        </p:spPr>
        <p:txBody>
          <a:bodyPr lIns="90000" rIns="90000" tIns="46800" bIns="46800" anchor="t">
            <a:normAutofit/>
          </a:bodyPr>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Based on research, feedback and testimonies, the most difficult professional transition for employees is the step up to supervisor. Are you ready to step up? </a:t>
            </a: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rior to any promotion, employees are usually looked upon as the technical expert, a dynamic individual contributor. Suddenly, with the stroke of a pen and a few words of congratulations, the new supervisor is expected to make a fundamental shift in their outlook and begin to accomplish great amount of work done through the cooperation of others. Instead of having a work schedule set by someone else, the new supervisor must set schedules for others, delegate work assignments, provide effective feedback and so much more. </a:t>
            </a: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Do you have the skills to make that happen? Will you be able to find job satisfaction as you guide and direct the work of others? These are just a few of the questions that an individual should be exploring as they outline their career path, either as a technical expert who shares valuable information to others, or as a formal leader, supervisor or manager in any organization.</a:t>
            </a: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Stepping Up To Supervision is designed to help employees identify the core skills/competencies necessary to become a confident, prepared, knowledgeable leader at the EPA. Are you ready to "Cross the Bridge" from being the technical expert to formally leading a team of professionals?</a:t>
            </a:r>
            <a:endParaRPr b="0" lang="en-US" sz="1500" spc="-1" strike="noStrike">
              <a:solidFill>
                <a:srgbClr val="000000"/>
              </a:solidFill>
              <a:latin typeface="Lucida Sans Unicode"/>
            </a:endParaRPr>
          </a:p>
          <a:p>
            <a:pPr marL="365040" indent="-25560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396" name="Title 2" descr=""/>
          <p:cNvPicPr/>
          <p:nvPr/>
        </p:nvPicPr>
        <p:blipFill>
          <a:blip r:embed="rId1"/>
          <a:stretch/>
        </p:blipFill>
        <p:spPr>
          <a:xfrm>
            <a:off x="79200" y="328680"/>
            <a:ext cx="6444000" cy="1566720"/>
          </a:xfrm>
          <a:prstGeom prst="rect">
            <a:avLst/>
          </a:prstGeom>
          <a:ln w="0">
            <a:noFill/>
          </a:ln>
        </p:spPr>
      </p:pic>
      <p:pic>
        <p:nvPicPr>
          <p:cNvPr id="397"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304560" y="1676160"/>
            <a:ext cx="6172200" cy="603396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You will engage in activities relating to:</a:t>
            </a:r>
            <a:endParaRPr b="0" lang="en-US" sz="27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eiving feedback from your supervisor, colleagues, peers and customers through a formal 360 assessment process </a:t>
            </a: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et a current supervisor and hear about their role, best practices, lessons learned and practical advise on next steps to success </a:t>
            </a: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ively participate in group discussions and exercises that help to stimulate new ideas and share experiences to help outline your development activities </a:t>
            </a: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gin to create an action plan using the feedback from your 360 assessment to focus on core skills that will help you to meet your professional goal </a:t>
            </a:r>
            <a:endParaRPr b="0" lang="en-US" sz="2000" spc="-1" strike="noStrike">
              <a:solidFill>
                <a:srgbClr val="000000"/>
              </a:solidFill>
              <a:latin typeface="Lucida Sans Unicode"/>
            </a:endParaRPr>
          </a:p>
          <a:p>
            <a:pPr marL="365040" indent="-255600">
              <a:lnSpc>
                <a:spcPct val="10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9" name="Title 2" descr=""/>
          <p:cNvPicPr/>
          <p:nvPr/>
        </p:nvPicPr>
        <p:blipFill>
          <a:blip r:embed="rId1"/>
          <a:stretch/>
        </p:blipFill>
        <p:spPr>
          <a:xfrm>
            <a:off x="152280" y="360360"/>
            <a:ext cx="6370920" cy="1535040"/>
          </a:xfrm>
          <a:prstGeom prst="rect">
            <a:avLst/>
          </a:prstGeom>
          <a:ln w="0">
            <a:noFill/>
          </a:ln>
        </p:spPr>
      </p:pic>
      <p:pic>
        <p:nvPicPr>
          <p:cNvPr id="400"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342720" y="1600200"/>
            <a:ext cx="6172200" cy="6408720"/>
          </a:xfrm>
          <a:prstGeom prst="rect">
            <a:avLst/>
          </a:prstGeom>
          <a:noFill/>
          <a:ln w="0">
            <a:noFill/>
          </a:ln>
        </p:spPr>
        <p:txBody>
          <a:bodyPr lIns="90000" rIns="90000" tIns="46800" bIns="46800" anchor="t">
            <a:normAutofit/>
          </a:bodyPr>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360 instruments that will give you the most reliable results for you and your organization (measures your identified competencies)</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Reporting options that allow you to view reliable results easily and clearly at an individual level, as well as at a group or organization level</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ata presentation shown in multiple formats </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mbedded development tools </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Group/Organization benchmarking </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lexible coaching options that complement the 360 process. (internal and or external)</a:t>
            </a:r>
            <a:endParaRPr b="0" lang="en-US" sz="16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ne-on-One Coaching </a:t>
            </a:r>
            <a:endParaRPr b="0" lang="en-US" sz="12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roup Facilitation </a:t>
            </a:r>
            <a:endParaRPr b="0" lang="en-US" sz="12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evelopment tools that aid your participants through the 360 process and the development that follows</a:t>
            </a:r>
            <a:endParaRPr b="0" lang="en-US" sz="16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velopment Tips </a:t>
            </a:r>
            <a:endParaRPr b="0" lang="en-US" sz="12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Behavioral Examples </a:t>
            </a:r>
            <a:endParaRPr b="0" lang="en-US" sz="12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ction Planning Forms/Tools </a:t>
            </a:r>
            <a:endParaRPr b="0" lang="en-US" sz="1200" spc="-1" strike="noStrike">
              <a:solidFill>
                <a:srgbClr val="000000"/>
              </a:solidFill>
              <a:latin typeface="Lucida Sans Unicode"/>
            </a:endParaRPr>
          </a:p>
          <a:p>
            <a:pPr lvl="1" marL="708120" indent="-343080">
              <a:lnSpc>
                <a:spcPct val="9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articipant Workbooks </a:t>
            </a:r>
            <a:endParaRPr b="0" lang="en-US" sz="1600" spc="-1" strike="noStrike">
              <a:solidFill>
                <a:srgbClr val="000000"/>
              </a:solidFill>
              <a:latin typeface="Lucida Sans Unicode"/>
            </a:endParaRPr>
          </a:p>
          <a:p>
            <a:pPr marL="463680" indent="-354240">
              <a:lnSpc>
                <a:spcPct val="90000"/>
              </a:lnSpc>
              <a:spcBef>
                <a:spcPts val="400"/>
              </a:spcBef>
              <a:buClr>
                <a:srgbClr val="a5b592"/>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2" name="Title 2" descr=""/>
          <p:cNvPicPr/>
          <p:nvPr/>
        </p:nvPicPr>
        <p:blipFill>
          <a:blip r:embed="rId1"/>
          <a:stretch/>
        </p:blipFill>
        <p:spPr>
          <a:xfrm>
            <a:off x="244440" y="360360"/>
            <a:ext cx="6278760" cy="1017720"/>
          </a:xfrm>
          <a:prstGeom prst="rect">
            <a:avLst/>
          </a:prstGeom>
          <a:ln w="0">
            <a:noFill/>
          </a:ln>
        </p:spPr>
      </p:pic>
      <p:pic>
        <p:nvPicPr>
          <p:cNvPr id="403"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42720" y="685800"/>
            <a:ext cx="6172200" cy="7323120"/>
          </a:xfrm>
          <a:prstGeom prst="rect">
            <a:avLst/>
          </a:prstGeom>
          <a:noFill/>
          <a:ln w="0">
            <a:noFill/>
          </a:ln>
        </p:spPr>
        <p:txBody>
          <a:bodyPr lIns="90000" rIns="90000" tIns="46800" bIns="46800" anchor="t">
            <a:normAutofit/>
          </a:bodyPr>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ur Nation’s future and the future success of our individual organizations  depends on the leaders we develop today. </a:t>
            </a:r>
            <a:endParaRPr b="0" lang="en-US" sz="2100" spc="-1" strike="noStrike">
              <a:solidFill>
                <a:srgbClr val="000000"/>
              </a:solidFill>
              <a:latin typeface="Lucida Sans Unicode"/>
            </a:endParaRPr>
          </a:p>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op talent looks for organizations that will provide them with the best leadership development programs—flexible and dynamic careers, challenging work, and opportunities  to innovate, create and work towards outcomes that will meet the organizations mission. </a:t>
            </a:r>
            <a:endParaRPr b="0" lang="en-US" sz="2100" spc="-1" strike="noStrike">
              <a:solidFill>
                <a:srgbClr val="000000"/>
              </a:solidFill>
              <a:latin typeface="Lucida Sans Unicode"/>
            </a:endParaRPr>
          </a:p>
          <a:p>
            <a:pPr marL="115920" indent="-648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115920" indent="-6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Lucida Sans Unicode"/>
              </a:rPr>
              <a:t>Why Our Organizations Need Effective Leadership Development</a:t>
            </a:r>
            <a:endParaRPr b="0" lang="en-US" sz="2100" spc="-1" strike="noStrike">
              <a:solidFill>
                <a:srgbClr val="000000"/>
              </a:solidFill>
              <a:latin typeface="Lucida Sans Unicode"/>
            </a:endParaRPr>
          </a:p>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1800" spc="-1" strike="noStrike">
                <a:solidFill>
                  <a:srgbClr val="000000"/>
                </a:solidFill>
                <a:latin typeface="Times New Roman"/>
                <a:ea typeface="Times New Roman"/>
              </a:rPr>
              <a:t>Leadership development is getting a lot of attention these days! The “Baby Boomers” are retiring and we need to build a new cadre of leaders to take on the responsibility of moving our organizations forward.  </a:t>
            </a:r>
            <a:endParaRPr b="0" lang="en-US" sz="1800" spc="-1" strike="noStrike">
              <a:solidFill>
                <a:srgbClr val="000000"/>
              </a:solidFill>
              <a:latin typeface="Lucida Sans Unicode"/>
            </a:endParaRPr>
          </a:p>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115920" indent="-6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etition for talent is fierce even in today’s economic situation.  Organizations who display leadership savvy and offer development opportunities to their employees have the edge over all competitors who are recruiting for the same talent, and it sets the foundation to expect sustainable success.</a:t>
            </a:r>
            <a:endParaRPr b="0" lang="en-US" sz="1800" spc="-1" strike="noStrike">
              <a:solidFill>
                <a:srgbClr val="000000"/>
              </a:solidFill>
              <a:latin typeface="Lucida Sans Unicode"/>
            </a:endParaRPr>
          </a:p>
          <a:p>
            <a:pPr marL="115920" indent="-648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74" name="Picture 3" descr="C:\Documents and Settings\sriding\Local Settings\Temporary Internet Files\Content.IE5\RZ9K039Z\MC900016951[1].wmf"/>
          <p:cNvPicPr/>
          <p:nvPr/>
        </p:nvPicPr>
        <p:blipFill>
          <a:blip r:embed="rId1"/>
          <a:stretch/>
        </p:blipFill>
        <p:spPr>
          <a:xfrm>
            <a:off x="4419720" y="7315200"/>
            <a:ext cx="1547640" cy="126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342720" y="1294920"/>
            <a:ext cx="6172200" cy="6713640"/>
          </a:xfrm>
          <a:prstGeom prst="rect">
            <a:avLst/>
          </a:prstGeom>
          <a:noFill/>
          <a:ln w="0">
            <a:noFill/>
          </a:ln>
        </p:spPr>
        <p:txBody>
          <a:bodyPr lIns="90000" rIns="90000" tIns="46800" bIns="46800" anchor="t">
            <a:normAutofit/>
          </a:bodyPr>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Environmental Protection Agency is no different than any other large organization when it comes to needing strong capable leaders to move the primary goals and objectives forward.  </a:t>
            </a:r>
            <a:endParaRPr b="0" lang="en-US" sz="2700" spc="-1" strike="noStrike">
              <a:solidFill>
                <a:srgbClr val="000000"/>
              </a:solidFill>
              <a:latin typeface="Lucida Sans Unicode"/>
            </a:endParaRPr>
          </a:p>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Filling positions and preparing individuals to take on the challenges of leading people is not always easy.</a:t>
            </a:r>
            <a:endParaRPr b="0" lang="en-US" sz="2700" spc="-1" strike="noStrike">
              <a:solidFill>
                <a:srgbClr val="000000"/>
              </a:solidFill>
              <a:latin typeface="Lucida Sans Unicode"/>
            </a:endParaRPr>
          </a:p>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nsuring employees focus on building capacity and strengthening the core competencies necessary to lead.</a:t>
            </a:r>
            <a:endParaRPr b="0" lang="en-US" sz="2700" spc="-1" strike="noStrike">
              <a:solidFill>
                <a:srgbClr val="000000"/>
              </a:solidFill>
              <a:latin typeface="Lucida Sans Unicode"/>
            </a:endParaRPr>
          </a:p>
          <a:p>
            <a:pPr marL="115920" indent="-6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le 2" descr=""/>
          <p:cNvPicPr/>
          <p:nvPr/>
        </p:nvPicPr>
        <p:blipFill>
          <a:blip r:embed="rId1"/>
          <a:stretch/>
        </p:blipFill>
        <p:spPr>
          <a:xfrm>
            <a:off x="79200" y="360360"/>
            <a:ext cx="6444000" cy="1017720"/>
          </a:xfrm>
          <a:prstGeom prst="rect">
            <a:avLst/>
          </a:prstGeom>
          <a:ln w="0">
            <a:noFill/>
          </a:ln>
        </p:spPr>
      </p:pic>
      <p:pic>
        <p:nvPicPr>
          <p:cNvPr id="377" name="Picture 3" descr="ArialRios_001.jpg"/>
          <p:cNvPicPr/>
          <p:nvPr/>
        </p:nvPicPr>
        <p:blipFill>
          <a:blip r:embed="rId2"/>
          <a:stretch/>
        </p:blipFill>
        <p:spPr>
          <a:xfrm>
            <a:off x="4495680" y="7516800"/>
            <a:ext cx="205740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342720" y="1371240"/>
            <a:ext cx="6172200" cy="6637320"/>
          </a:xfrm>
          <a:prstGeom prst="rect">
            <a:avLst/>
          </a:prstGeom>
          <a:noFill/>
          <a:ln w="0">
            <a:noFill/>
          </a:ln>
        </p:spPr>
        <p:txBody>
          <a:bodyPr lIns="90000" rIns="90000" tIns="46800" bIns="46800" anchor="t">
            <a:normAutofit/>
          </a:bodyPr>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Finding the </a:t>
            </a:r>
            <a:r>
              <a:rPr b="1" lang="en-US" sz="2700" spc="-1" strike="noStrike">
                <a:solidFill>
                  <a:srgbClr val="000000"/>
                </a:solidFill>
                <a:latin typeface="Times New Roman"/>
                <a:ea typeface="Times New Roman"/>
              </a:rPr>
              <a:t>right</a:t>
            </a:r>
            <a:r>
              <a:rPr b="0" lang="en-US" sz="2700" spc="-1" strike="noStrike">
                <a:solidFill>
                  <a:srgbClr val="000000"/>
                </a:solidFill>
                <a:latin typeface="Times New Roman"/>
                <a:ea typeface="Times New Roman"/>
              </a:rPr>
              <a:t> person for the </a:t>
            </a:r>
            <a:r>
              <a:rPr b="1" lang="en-US" sz="2700" spc="-1" strike="noStrike">
                <a:solidFill>
                  <a:srgbClr val="000000"/>
                </a:solidFill>
                <a:latin typeface="Times New Roman"/>
                <a:ea typeface="Times New Roman"/>
              </a:rPr>
              <a:t>right</a:t>
            </a:r>
            <a:r>
              <a:rPr b="0" lang="en-US" sz="2700" spc="-1" strike="noStrike">
                <a:solidFill>
                  <a:srgbClr val="000000"/>
                </a:solidFill>
                <a:latin typeface="Times New Roman"/>
                <a:ea typeface="Times New Roman"/>
              </a:rPr>
              <a:t> job at the </a:t>
            </a:r>
            <a:r>
              <a:rPr b="1" lang="en-US" sz="2700" spc="-1" strike="noStrike">
                <a:solidFill>
                  <a:srgbClr val="000000"/>
                </a:solidFill>
                <a:latin typeface="Times New Roman"/>
                <a:ea typeface="Times New Roman"/>
              </a:rPr>
              <a:t>right </a:t>
            </a:r>
            <a:r>
              <a:rPr b="0" lang="en-US" sz="2700" spc="-1" strike="noStrike">
                <a:solidFill>
                  <a:srgbClr val="000000"/>
                </a:solidFill>
                <a:latin typeface="Times New Roman"/>
                <a:ea typeface="Times New Roman"/>
              </a:rPr>
              <a:t>time becomes one of the primary challenges of both the senior leadership team and the training and development community.</a:t>
            </a: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dentifying gaps in skill and experience to improve employee “readiness” to take on challenges associated with formal leadership roles.</a:t>
            </a: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artnering with the Agency Strategic Workforce Planning, and Executive Development teams helps us focus our direction and selection of development activities</a:t>
            </a: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lnSpc>
                <a:spcPct val="9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79200" y="360360"/>
            <a:ext cx="6444000" cy="109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342720" y="1523520"/>
            <a:ext cx="6172200" cy="6218280"/>
          </a:xfrm>
          <a:prstGeom prst="rect">
            <a:avLst/>
          </a:prstGeom>
          <a:noFill/>
          <a:ln w="0">
            <a:noFill/>
          </a:ln>
        </p:spPr>
        <p:txBody>
          <a:bodyPr lIns="90000" rIns="90000" tIns="46800" bIns="46800" anchor="t">
            <a:normAutofit fontScale="96000"/>
          </a:bodyPr>
          <a:p>
            <a:pPr marL="350280" indent="-245160">
              <a:lnSpc>
                <a:spcPct val="80000"/>
              </a:lnSpc>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Lucida Sans Unicode"/>
              </a:rPr>
              <a:t>Stepping Up To Supervision</a:t>
            </a:r>
            <a:endParaRPr b="0" lang="en-US" sz="2300" spc="-1" strike="noStrike">
              <a:solidFill>
                <a:srgbClr val="000000"/>
              </a:solidFill>
              <a:latin typeface="Lucida Sans Unicode"/>
            </a:endParaRPr>
          </a:p>
          <a:p>
            <a:pPr marL="350280" indent="-245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of Agency Leadership Model</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 and review various leadership roles available in federal service</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core competency model</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a full 360°</a:t>
            </a:r>
            <a:r>
              <a:rPr b="0" lang="ar-AE" sz="2000" spc="-1" strike="noStrike">
                <a:solidFill>
                  <a:srgbClr val="000000"/>
                </a:solidFill>
                <a:latin typeface="Times New Roman"/>
                <a:cs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kills assessment</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over the power and importance of emotional intelligence</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ild developmental action plan</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 options for mentoring and other development activities </a:t>
            </a:r>
            <a:endParaRPr b="0" lang="en-US" sz="2000" spc="-1" strike="noStrike">
              <a:solidFill>
                <a:srgbClr val="000000"/>
              </a:solidFill>
              <a:latin typeface="Lucida Sans Unicode"/>
            </a:endParaRPr>
          </a:p>
          <a:p>
            <a:pPr lvl="1" marL="595800" indent="-219240">
              <a:lnSpc>
                <a:spcPct val="8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2" marL="824400" indent="-219240">
              <a:lnSpc>
                <a:spcPct val="8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rogram aligns with EPA’s Successful Leader’s Program</a:t>
            </a:r>
            <a:endParaRPr b="0" lang="en-US" sz="1800" spc="-1" strike="noStrike">
              <a:solidFill>
                <a:srgbClr val="000000"/>
              </a:solidFill>
              <a:latin typeface="Lucida Sans Unicode"/>
            </a:endParaRPr>
          </a:p>
        </p:txBody>
      </p:sp>
      <p:pic>
        <p:nvPicPr>
          <p:cNvPr id="381" name="Title 2" descr=""/>
          <p:cNvPicPr/>
          <p:nvPr/>
        </p:nvPicPr>
        <p:blipFill>
          <a:blip r:embed="rId1"/>
          <a:stretch/>
        </p:blipFill>
        <p:spPr>
          <a:xfrm>
            <a:off x="79200" y="341280"/>
            <a:ext cx="6444000" cy="963720"/>
          </a:xfrm>
          <a:prstGeom prst="rect">
            <a:avLst/>
          </a:prstGeom>
          <a:ln w="0">
            <a:noFill/>
          </a:ln>
        </p:spPr>
      </p:pic>
      <p:pic>
        <p:nvPicPr>
          <p:cNvPr id="382"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342720" y="1523520"/>
            <a:ext cx="6172200" cy="621828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Lucida Sans Unicode"/>
              </a:rPr>
              <a:t>Leadership and Professional Development Rotation Program</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high potential non-supervisory GS13-15 engage in a 120 day development rotation assignment</a:t>
            </a:r>
            <a:endParaRPr b="0" lang="en-US" sz="24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rience first hand supervisory tasks and assignments</a:t>
            </a:r>
            <a:endParaRPr b="0" lang="en-US" sz="24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dow senior executive </a:t>
            </a:r>
            <a:endParaRPr b="0" lang="en-US" sz="24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ntor assigned throughout to guide and provide feedback</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79200" y="341280"/>
            <a:ext cx="6444000" cy="963720"/>
          </a:xfrm>
          <a:prstGeom prst="rect">
            <a:avLst/>
          </a:prstGeom>
          <a:ln w="0">
            <a:noFill/>
          </a:ln>
        </p:spPr>
      </p:pic>
      <p:pic>
        <p:nvPicPr>
          <p:cNvPr id="385"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342720" y="1371240"/>
            <a:ext cx="6172200" cy="6218280"/>
          </a:xfrm>
          <a:prstGeom prst="rect">
            <a:avLst/>
          </a:prstGeom>
          <a:noFill/>
          <a:ln w="0">
            <a:noFill/>
          </a:ln>
        </p:spPr>
        <p:txBody>
          <a:bodyPr lIns="90000" rIns="90000" tIns="46800" bIns="46800" anchor="t">
            <a:normAutofit fontScale="95000"/>
          </a:bodyPr>
          <a:p>
            <a:pPr marL="346680" indent="-24264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Lucida Sans Unicode"/>
              </a:rPr>
              <a:t>Career Path Planning</a:t>
            </a:r>
            <a:endParaRPr b="0" lang="en-US" sz="2300" spc="-1" strike="noStrike">
              <a:solidFill>
                <a:srgbClr val="000000"/>
              </a:solidFill>
              <a:latin typeface="Lucida Sans Unicode"/>
            </a:endParaRPr>
          </a:p>
          <a:p>
            <a:pPr marL="346680" indent="-24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uss career fit</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core values </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results of Interests assessment</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ntoring and Feedback</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ing your personal network</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ioning for the future</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ment/Action planning</a:t>
            </a:r>
            <a:endParaRPr b="0" lang="en-US" sz="2400" spc="-1" strike="noStrike">
              <a:solidFill>
                <a:srgbClr val="000000"/>
              </a:solidFill>
              <a:latin typeface="Lucida Sans Unicode"/>
            </a:endParaRPr>
          </a:p>
          <a:p>
            <a:pPr lvl="1" marL="589320" indent="-21708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7" name="Title 2" descr=""/>
          <p:cNvPicPr/>
          <p:nvPr/>
        </p:nvPicPr>
        <p:blipFill>
          <a:blip r:embed="rId1"/>
          <a:stretch/>
        </p:blipFill>
        <p:spPr>
          <a:xfrm>
            <a:off x="79200" y="341280"/>
            <a:ext cx="6444000" cy="963720"/>
          </a:xfrm>
          <a:prstGeom prst="rect">
            <a:avLst/>
          </a:prstGeom>
          <a:ln w="0">
            <a:noFill/>
          </a:ln>
        </p:spPr>
      </p:pic>
      <p:pic>
        <p:nvPicPr>
          <p:cNvPr id="388"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42720" y="1371240"/>
            <a:ext cx="6172200" cy="621828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Lucida Sans Unicode"/>
              </a:rPr>
              <a:t>Coaching, Mentoring and On-Line Learning</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lso have access to a variety of learning activities:</a:t>
            </a:r>
            <a:endParaRPr b="0" lang="en-US" sz="2400" spc="-1" strike="noStrike">
              <a:solidFill>
                <a:srgbClr val="000000"/>
              </a:solidFill>
              <a:latin typeface="Lucida Sans Unicode"/>
            </a:endParaRPr>
          </a:p>
          <a:p>
            <a:pPr lvl="2" marL="858960" indent="-228600">
              <a:lnSpc>
                <a:spcPct val="10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on-One Coaching services  (internal and external sources)</a:t>
            </a:r>
            <a:endParaRPr b="0" lang="en-US" sz="2200" spc="-1" strike="noStrike">
              <a:solidFill>
                <a:srgbClr val="000000"/>
              </a:solidFill>
              <a:latin typeface="Lucida Sans Unicode"/>
            </a:endParaRPr>
          </a:p>
          <a:p>
            <a:pPr lvl="2" marL="858960" indent="-228600">
              <a:lnSpc>
                <a:spcPct val="10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lnSpc>
                <a:spcPct val="10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mal and informal mentoring opportunities</a:t>
            </a:r>
            <a:endParaRPr b="0" lang="en-US" sz="2200" spc="-1" strike="noStrike">
              <a:solidFill>
                <a:srgbClr val="000000"/>
              </a:solidFill>
              <a:latin typeface="Lucida Sans Unicode"/>
            </a:endParaRPr>
          </a:p>
          <a:p>
            <a:pPr lvl="2" marL="858960" indent="-228600">
              <a:lnSpc>
                <a:spcPct val="10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lnSpc>
                <a:spcPct val="100000"/>
              </a:lnSpc>
              <a:spcBef>
                <a:spcPts val="349"/>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ess to on-line development programs through two different vendors</a:t>
            </a:r>
            <a:endParaRPr b="0" lang="en-US" sz="2200" spc="-1" strike="noStrike">
              <a:solidFill>
                <a:srgbClr val="000000"/>
              </a:solidFill>
              <a:latin typeface="Lucida Sans Unicode"/>
            </a:endParaRPr>
          </a:p>
          <a:p>
            <a:pPr lvl="1" marL="620640" indent="-228600">
              <a:lnSpc>
                <a:spcPct val="100000"/>
              </a:lnSpc>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90" name="Title 2" descr=""/>
          <p:cNvPicPr/>
          <p:nvPr/>
        </p:nvPicPr>
        <p:blipFill>
          <a:blip r:embed="rId1"/>
          <a:stretch/>
        </p:blipFill>
        <p:spPr>
          <a:xfrm>
            <a:off x="79200" y="341280"/>
            <a:ext cx="6444000" cy="963720"/>
          </a:xfrm>
          <a:prstGeom prst="rect">
            <a:avLst/>
          </a:prstGeom>
          <a:ln w="0">
            <a:noFill/>
          </a:ln>
        </p:spPr>
      </p:pic>
      <p:pic>
        <p:nvPicPr>
          <p:cNvPr id="391"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342720" y="1219320"/>
            <a:ext cx="6172200" cy="6789600"/>
          </a:xfrm>
          <a:prstGeom prst="rect">
            <a:avLst/>
          </a:prstGeom>
          <a:noFill/>
          <a:ln w="0">
            <a:noFill/>
          </a:ln>
        </p:spPr>
        <p:txBody>
          <a:bodyPr lIns="90000" rIns="90000" tIns="46800" bIns="46800" anchor="t">
            <a:normAutofit/>
          </a:bodyPr>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Lucida Sans Unicode"/>
              </a:rPr>
              <a:t>Stepping Up To Supervision</a:t>
            </a:r>
            <a:endParaRPr b="0" lang="en-US" sz="27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fered at Headquarters 2x’s annually</a:t>
            </a: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fered in Regions and Laboratories as requested</a:t>
            </a: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Lucida Sans Unicode"/>
              </a:rPr>
              <a:t>Leadership and Professional Development Rotation Program</a:t>
            </a:r>
            <a:endParaRPr b="0" lang="en-US" sz="27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nual engagement – up to 24 participants per year</a:t>
            </a: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a5b592"/>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Lucida Sans Unicode"/>
              </a:rPr>
              <a:t>Career Path Planning</a:t>
            </a:r>
            <a:endParaRPr b="0" lang="en-US" sz="27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fered at Headquarters 2x’s annually</a:t>
            </a: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fered in Regions and Laboratories as requested</a:t>
            </a: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a5b59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3" name="Title 2" descr=""/>
          <p:cNvPicPr/>
          <p:nvPr/>
        </p:nvPicPr>
        <p:blipFill>
          <a:blip r:embed="rId1"/>
          <a:stretch/>
        </p:blipFill>
        <p:spPr>
          <a:xfrm>
            <a:off x="79200" y="360360"/>
            <a:ext cx="6444000" cy="1017720"/>
          </a:xfrm>
          <a:prstGeom prst="rect">
            <a:avLst/>
          </a:prstGeom>
          <a:ln w="0">
            <a:noFill/>
          </a:ln>
        </p:spPr>
      </p:pic>
      <p:pic>
        <p:nvPicPr>
          <p:cNvPr id="394" name="Picture 2" descr=""/>
          <p:cNvPicPr/>
          <p:nvPr/>
        </p:nvPicPr>
        <p:blipFill>
          <a:blip r:embed="rId2"/>
          <a:stretch/>
        </p:blipFill>
        <p:spPr>
          <a:xfrm>
            <a:off x="5999040" y="8264520"/>
            <a:ext cx="858960" cy="87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4:10:03Z</dcterms:created>
  <dc:creator>SRiding</dc:creator>
  <dc:description/>
  <dc:language>en-US</dc:language>
  <cp:lastModifiedBy>OPM</cp:lastModifiedBy>
  <dcterms:modified xsi:type="dcterms:W3CDTF">2010-05-04T18:18:37Z</dcterms:modified>
  <cp:revision>23</cp:revision>
  <dc:subject/>
  <dc:title>United States Environmental Protection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6877548</vt:r8>
  </property>
  <property fmtid="{D5CDD505-2E9C-101B-9397-08002B2CF9AE}" pid="3" name="_AuthorEmail">
    <vt:lpwstr>Loretta.Reeves@opm.gov</vt:lpwstr>
  </property>
  <property fmtid="{D5CDD505-2E9C-101B-9397-08002B2CF9AE}" pid="4" name="_AuthorEmailDisplayName">
    <vt:lpwstr>Reeves, Loretta L</vt:lpwstr>
  </property>
  <property fmtid="{D5CDD505-2E9C-101B-9397-08002B2CF9AE}" pid="5" name="_EmailSubject">
    <vt:lpwstr>Slides, Agenda, Correct titles and Agency's for the Webcast - May 5, 2010- 1:30-2:30 pm.</vt:lpwstr>
  </property>
</Properties>
</file>