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F8C-CF02-4074-959F-6E44D427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087-5A92-446F-B83E-A4EAAED1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057-DE8B-42C5-8003-106AB3A9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597-3CFD-440F-A6EB-83B4B7C3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99A-05E0-44CA-A88B-3D75117E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9A4-A0D8-441C-A4C7-4481857D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00F-9242-47D1-935E-60DE3559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4EC-8D88-4A34-9E03-A8C4B24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F13-4502-4890-9786-E1D5AFEE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E96-9E90-4927-9857-75854B46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32C-89D0-4C3F-8BF9-E7C9208C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1CA-CE1F-42DC-B152-92F732D8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456C-4BBE-4158-A631-0D0A9481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5564160"/>
            <a:ext cx="13716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sandy.wells@ios.doi.gov" TargetMode="External"/><Relationship Id="rId2" Type="http://schemas.openxmlformats.org/officeDocument/2006/relationships/hyperlink" Target="file:///Jan%2009%20OPM.pp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ws.gov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usbr.gov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osmre.gov/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doi.gov/bureau-indian-affairs.html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www.nps.gov/" TargetMode="External"/><Relationship Id="rId10" Type="http://schemas.openxmlformats.org/officeDocument/2006/relationships/image" Target="../media/image11.png"/><Relationship Id="rId11" Type="http://schemas.openxmlformats.org/officeDocument/2006/relationships/hyperlink" Target="http://www.usgs.gov/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www.blm.gov/nhp/index.htm" TargetMode="External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685800"/>
            <a:ext cx="1981080" cy="2100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69520" y="2590920"/>
            <a:ext cx="61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tion to the Department of the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ior Executive Service Candidate Develop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8120" y="3048120"/>
            <a:ext cx="8170920" cy="825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the Department of the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ior Executive Service Candidate Developme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ogram Requirements and overal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or-Protégé Meet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effectiveness feedback through 3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Instrumentation builds awareness of strengths and developmental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 opportunity to initiate relationships and teambuilding as a coh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E31-C1A6-4647-BDBF-392B3D795F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or-Protégé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ors represent every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ors and Protégés participate in training to learn effectiv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or Guide distributed to reinforce the mentor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oring Agreement reviews the duality of the relationship and describes how the pair will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2E7-64EB-454B-A90B-F5922915A7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 Development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d at Orientation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 reviews previous work experience, previous executive development, and 360 feedback to identify level of focus on ECQ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created with Men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ed to ERB for review and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5CC-F7D3-4637-B58C-03D7E350AA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e S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and conducted by DOI SES sponsors with sincere interest to contribute to organization’s su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urse curriculum includes sessions offered by DOI leaders and external subject matter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d in different locations around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Q development through an executive focus on important issues facing D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C73-4EE8-4646-BF26-2649438D53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 #16 Core S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Decision-making: Values, Ethics, and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Vision, Mission, Culture,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 and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Budget, Finance, and 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Management Opportun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10A-563E-4A08-BCAD-AF0FADDF4B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al Ass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nternal or external to D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s meet standards established by O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Executive Spo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 documents experience in terms of ECQs, value of assignment, and outcomes; Executive Sponsor also writes one page assessment of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670-1695-42CC-97E5-C034D7223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cutive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s the requirement of OPM for at least 80 hours of formal executive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to ECQ areas for growth and applicability to federal work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82B-E86F-477C-8C06-55A250E85B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m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grouped into four or five to work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topics address an issue of systemic importance, i.e. issues identified in Federal Human Capital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 work across organizational lines to make recommendations for tangib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10D-4908-4AAD-85C0-23C4B6DDCA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Q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submitted to OPM Qualifications Review Board will include ECQ statement, certificates of course completion, and two-page mentor statement indicating support and evidences of successful CDP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AC6-BC55-40CC-9580-E12D28416C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to our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critique of our process has resulte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ollaborative workspace for candidate interaction (Share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on of IDP process to ensure closer link to ECQ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 of the mentoring process to ensure closer interaction between protégé and men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5A2-761C-4639-BB21-435CBEA755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artment of the I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the nation’s principal conservation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992-CEC8-4453-B652-53D86CE848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s of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to completion of Class #15, ten candidates were placed in SES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CDP graduates are strong candidates for upcoming vacancies per the Department Success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ort bonding is strong upon course completion; graduating class seeks ways to stay in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s share their leadership experience by volunteering to serve as mentors in the new Department-wide mentor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6D3-B700-4FE0-A831-23E6522F9E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y W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, Strategic Employe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:  202 208 2154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ndy.wells@ios.doi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i Mal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, Executiv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: 202 208 0874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enny.mallios@ios.doi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A72-5811-4BFC-A4F4-A2D1CA8E46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28600"/>
            <a:ext cx="73152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 America’s natural resources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ccess to our nation’s natural and cultural heri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 recreational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or our trust responsibilities to American Indians, Alaska natives, and responsibilities to Island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scientific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wise stewardship of energy and miner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sound use of land and wat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e and protect fish and wild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1320" y="4876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archeologist working near gravesite"/>
          <p:cNvPicPr/>
          <p:nvPr/>
        </p:nvPicPr>
        <p:blipFill>
          <a:blip r:embed="rId2"/>
          <a:stretch/>
        </p:blipFill>
        <p:spPr>
          <a:xfrm>
            <a:off x="7238880" y="152280"/>
            <a:ext cx="1578240" cy="1874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66680" y="380880"/>
            <a:ext cx="221004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E93-8427-4636-A159-6990963CDC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6880" y="228600"/>
            <a:ext cx="3810240" cy="914400"/>
          </a:xfrm>
          <a:prstGeom prst="rect">
            <a:avLst/>
          </a:prstGeom>
          <a:solidFill>
            <a:srgbClr val="f7fea0">
              <a:alpha val="16000"/>
            </a:srgbClr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I Structu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61722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L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h and Wildlif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Recla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Indian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Indian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of Surface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s Management Servi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Parks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Official Web page of the U S Fish and Wildlife Serv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1600200"/>
            <a:ext cx="877680" cy="10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Bureau of Reclam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880"/>
            <a:ext cx="1524240" cy="781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23040" y="331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Office of Surface Mini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8880" y="29718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Bureau of Indian Affair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42670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National Park Servic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14400" y="609480"/>
            <a:ext cx="1022400" cy="127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U.S. Geological Surve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14400" y="2286000"/>
            <a:ext cx="1066680" cy="42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Bureau of Land Managemen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914400" y="3276720"/>
            <a:ext cx="1190520" cy="3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10E-81BB-47C0-9BEA-1C8953368D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partment of the I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500 million acres of surface land—one out of every 5 acres of U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1.76 billion acres of the Outer Continental Shelf with over 8,500 active oil and gas 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GS is a world leader in the natural sciences thanks to our scientific excellence and responsiveness to society'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Yosemite Falls and green meadow"/>
          <p:cNvPicPr/>
          <p:nvPr/>
        </p:nvPicPr>
        <p:blipFill>
          <a:blip r:embed="rId1"/>
          <a:stretch/>
        </p:blipFill>
        <p:spPr>
          <a:xfrm>
            <a:off x="1295280" y="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B28-A685-4B2D-A46A-A21D9C4FE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our country’s wat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ms, reservoirs, and underwater                            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creation through recreational sites and parks, monuments, seashore sites, and battlefields managed by the National Park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ith 562 Indian tribes and provides educational services to approximately 46,000 Indian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es and protects fish, wildlife, plants and their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tats                                                                                                             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Photograph of Hoover Dam"/>
          <p:cNvPicPr/>
          <p:nvPr/>
        </p:nvPicPr>
        <p:blipFill>
          <a:blip r:embed="rId1"/>
          <a:stretch/>
        </p:blipFill>
        <p:spPr>
          <a:xfrm>
            <a:off x="6934320" y="609480"/>
            <a:ext cx="167004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987-7E0E-4257-BF0F-7B3C62F5C2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I Senior Executive Service Candidate Develop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oms leaders to meet our executive leadership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y element of our Succession Manage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ur internal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#16 selected in Fall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 Resources Board (ERB) oversees entir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 Champion is Deputy Chief Human Capital Officer, supported by DOI University, Executive Resources, and Strategic Employe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3B4-47F2-443F-A243-53DC55C1A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e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s write ECQs; qualifications reviewed by executive pa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 of process is candidate interview by 3 person executive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B reviews applicant packages and makes sele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size averages 32-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s open to externa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492-A609-446A-968E-C33E6A303C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fea0">
              <a:alpha val="20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sig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82844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tion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Development 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 SES Men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Core Session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al Ass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7F4-29B1-46BA-999F-83C9DB6D14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5:39:13Z</dcterms:created>
  <dc:creator>Sandy Wells</dc:creator>
  <dc:description/>
  <dc:language>en-US</dc:language>
  <cp:lastModifiedBy>Sandy Wells</cp:lastModifiedBy>
  <dcterms:modified xsi:type="dcterms:W3CDTF">2009-01-07T12:09:25Z</dcterms:modified>
  <cp:revision>10</cp:revision>
  <dc:subject/>
  <dc:title>Slide 1</dc:title>
</cp:coreProperties>
</file>