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564A-9914-4F21-BFB8-6707DE0E5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ver sl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C3D5-E4FC-494B-B53E-A584E8D33D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BEEB-08CC-4B1E-89A9-B22CFFDC2E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1D34-7BD6-4CB0-8688-162C3536BF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18A7-8A77-4F99-A92B-C25F93C7B2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5AE6-5420-4E50-ACBA-AB0D896C1C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51B0-F382-4DCD-A260-82653DBB4A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e Primary goal of this program is to develop six core ATF leadership competencies (humRRO study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rganizational Aware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lan, Organize and Priorit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eamwork and Collabo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ecisive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elf-Manag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ntegrity and Eth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e also wanted to provide an opportunity for individual self-assessments against all 17 ATF Leadership competencie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inally, we wanted to provide an opportunity for individual participants to discover their leadership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strengths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505D-8C83-4546-B157-697CB2D77D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D716-5AF5-4BE0-98F0-2107FB87DE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90A5-CEFB-4169-B0F6-F7D8CB66AE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3CFB-537A-4152-99DA-FB7BF9E283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46DE-812C-4EFF-9D9A-061D370D0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B9D1-B8EF-485A-BB1F-2B249C87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7F40-13B2-4B9A-9381-7E782036B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C23C-8584-4641-A57C-DF0267814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0609A-C72C-4AD0-9F47-85FB9862F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06A5-A212-4128-85B4-5E66DAA6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2246-2C20-4C1D-895E-583E2CD0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EA17-57D8-42D4-8779-6590DF46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4493E-D5A2-4A71-866E-3276C300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D630-17A0-4BDF-9492-695F3E629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7997-23D8-4F6E-B3FA-A97C6C7A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54A5-8DFF-4DF9-8197-44AB8B58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8496-6CC7-403B-9670-12B2FD13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4E9F-62E4-4CFE-A2E5-B5B54B6B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75FA-2C5A-4D20-B23A-B37FA450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47D4-DE85-48B4-9EAE-286BC6AB0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8017-BDB0-467E-B330-D15B1D57E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5B2E-97E8-4C73-A2AE-3292E353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8ED1-F9C1-4CCB-B602-8F60A58A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1696-CB5E-462D-98E3-9EED5E4E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02E5-1A07-467B-BD08-3A893835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C7EE-2036-4D18-BC48-A8357732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AD75-C301-451D-AA85-92F1A8F0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4BD5-4468-4665-8717-B1B79DDE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E5E7-7488-42AF-869D-B18D43847005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3C5B-C13C-4471-8141-8D3A4EF6966C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ectangle 2" descr=""/>
          <p:cNvPicPr/>
          <p:nvPr/>
        </p:nvPicPr>
        <p:blipFill>
          <a:blip r:embed="rId2"/>
          <a:stretch/>
        </p:blipFill>
        <p:spPr>
          <a:xfrm>
            <a:off x="262080" y="390600"/>
            <a:ext cx="8729640" cy="30114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430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Tom Klein, Chief, Leadership and Occupational Development Divis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Bill Thimmesch, Program Manager, Leadership Institut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21492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ace-to Face Orientation (wherever possible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tended preparation time for facilitato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me Lecture Neede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nsider technical issue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cording Sessi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eadse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raining spac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eam Dynamic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Rectangle 2" descr=""/>
          <p:cNvPicPr/>
          <p:nvPr/>
        </p:nvPicPr>
        <p:blipFill>
          <a:blip r:embed="rId2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2"/>
          <a:stretch/>
        </p:blipFill>
        <p:spPr>
          <a:xfrm>
            <a:off x="450720" y="755640"/>
            <a:ext cx="8242560" cy="18414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90720" y="23623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9e7ed"/>
                </a:solidFill>
                <a:latin typeface="Book Antiqua"/>
              </a:rPr>
              <a:t>The Leadership Institute is a comprehensive integrated program for identifying, developing and sustaining high performing leaders.  It serves ATF’s current and aspiring leaders.  The Leadership Institute encompasses a wide variety of activities which include classroom training, technology-based training, developmental assignments and mentoring programs.  These diverse activities have a common goal: high performing leaders throughout ATF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50880" indent="-514440">
              <a:spcBef>
                <a:spcPts val="700"/>
              </a:spcBef>
              <a:buClr>
                <a:srgbClr val="f9f9f9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2d5a3"/>
                </a:solidFill>
                <a:latin typeface="Book Antiqua"/>
              </a:rPr>
              <a:t>Stepping up to Leadership Program (GS-9 thru 12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50880" indent="-514440">
              <a:spcBef>
                <a:spcPts val="700"/>
              </a:spcBef>
              <a:buClr>
                <a:srgbClr val="f9f9f9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Management guidance for developing othe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50880" indent="-514440">
              <a:spcBef>
                <a:spcPts val="700"/>
              </a:spcBef>
              <a:buClr>
                <a:srgbClr val="f9f9f9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Leadership Enhancement Program (non-supervisory GS- 13 and 14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50880" indent="-514440">
              <a:spcBef>
                <a:spcPts val="700"/>
              </a:spcBef>
              <a:buClr>
                <a:srgbClr val="f9f9f9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Self-development leadership training (entry level on up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50880" indent="-514440">
              <a:spcBef>
                <a:spcPts val="700"/>
              </a:spcBef>
              <a:buClr>
                <a:srgbClr val="f9f9f9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Introduction to leadership (Academy and On-Boarding Process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5088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Rectangle 2" descr=""/>
          <p:cNvPicPr/>
          <p:nvPr/>
        </p:nvPicPr>
        <p:blipFill>
          <a:blip r:embed="rId2"/>
          <a:stretch/>
        </p:blipFill>
        <p:spPr>
          <a:xfrm>
            <a:off x="682560" y="646200"/>
            <a:ext cx="7785000" cy="14382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914400" y="2742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gram Description, Purpose, Conten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echnologies Use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onthly Training Session Snapsho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essons Learned, Your Questi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2" descr=""/>
          <p:cNvPicPr/>
          <p:nvPr/>
        </p:nvPicPr>
        <p:blipFill>
          <a:blip r:embed="rId2"/>
          <a:stretch/>
        </p:blipFill>
        <p:spPr>
          <a:xfrm>
            <a:off x="682560" y="122400"/>
            <a:ext cx="7785000" cy="2114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838080" y="914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Stepping up to Leadership Program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is a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279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welve-month aspiring leaders program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279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r non-supervisory GS-9s, 11s, and 12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279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program includes a mix of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22120" indent="-226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Formal coursework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22120" indent="-226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elf-assessment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22120" indent="-226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Developmental assignment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22120" indent="-226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Other activities aimed at developing leadership skills of non-supervisor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279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Rectangle 2" descr=""/>
          <p:cNvPicPr/>
          <p:nvPr/>
        </p:nvPicPr>
        <p:blipFill>
          <a:blip r:embed="rId2"/>
          <a:stretch/>
        </p:blipFill>
        <p:spPr>
          <a:xfrm>
            <a:off x="450720" y="237960"/>
            <a:ext cx="8242560" cy="9874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533520" y="16002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primary goal of the SUTL Program is to develop six core ATF Leadership Competencies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Organizational Awarenes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lan, Organize and Prioritize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eamwork and Collaboration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Decisivenes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elf-Managemen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Integrity and Ethic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n additional goal of the SUTL Program is to provide an opportunity for individual assessmen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 final goal is to provide individuals with an assessment of their leadership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strength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wheel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8320" indent="-282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12-month program includes: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90-minute program orientation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Completion of Leadership Assessmen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Program IDP w/supervisor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tructured Learning Experienc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LearnATF online leadership training; monthly discussion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ssigned reading on leadership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End-of-Program writing assignmen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killSoft training courses/LM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etAbstract book summaries/LM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eb meetings (Adobe Connect/Saba Centra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stant messaging for team break-ou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5" name="Picture 2" descr="C:\Documents and Settings\wethimmesc\My Documents\My Pictures\Microsoft Clip Organizer\j0442955.jpg"/>
          <p:cNvPicPr/>
          <p:nvPr/>
        </p:nvPicPr>
        <p:blipFill>
          <a:blip r:embed="rId3"/>
          <a:stretch/>
        </p:blipFill>
        <p:spPr>
          <a:xfrm>
            <a:off x="5253120" y="4057560"/>
            <a:ext cx="330336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315280" cy="1158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eams are pre-assigned specific questi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iscussion leaders arrange virtual meeting with team to discus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iscussion leader or designate presents team’s question at monthly training sessio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ll participants must attend and participat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0T15:55:51Z</dcterms:created>
  <dc:creator>William Thimmesch</dc:creator>
  <dc:description/>
  <dc:language>en-US</dc:language>
  <cp:lastModifiedBy>OPM</cp:lastModifiedBy>
  <dcterms:modified xsi:type="dcterms:W3CDTF">2010-05-04T18:17:35Z</dcterms:modified>
  <cp:revision>129</cp:revision>
  <dc:subject/>
  <dc:title>Windows 2000 and UH</dc:title>
</cp:coreProperties>
</file>