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170A3-D48B-4633-85DF-BBB21A3CBA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D75AE-9CBD-42F7-8348-0E67A9BB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CEAD7-6A41-4F62-908C-01FB2876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6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6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429F2-7C54-4093-9FA8-5FEFBCECDD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7A5BA-207E-4512-91A4-9633CE7CE6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689CF-E550-4F3A-8606-C6C2EB64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2D804-D09E-4D2A-9459-0CFE0F02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61910-F426-4F87-A6CB-DBEAD623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D1447-CEE6-4292-8573-11C57CB5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9840" y="2743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32818-4C54-4420-9F40-50049EF1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A5FFE-C6C0-4B5E-B119-0A810D82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AE66-1FED-4187-BE78-3CA3CE8C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61CE4-B48C-42BC-AAF7-C8D47601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5A23F-B5DA-4931-AED9-3A06CCE9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CA7A8-B5E3-4B8B-8B99-25333B15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F9505-E452-4504-85BA-4F5AAE26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6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2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9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6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2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56B57-DECC-4D4E-9361-0F522C6EE5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28F26-F1DE-4284-AA3C-B75D8B7F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E86B7-637A-4BC8-A11C-224467C1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0F905-ED74-4C80-A5A9-14DD5949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2743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A0B30-F640-4956-8FAE-376E7946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FA6C0-CA25-45C3-8422-DF09F42B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00178-BD91-4FA3-8B28-4B8D36DE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73199-2119-4169-A6D6-64F59710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Templat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998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38880" y="6356520"/>
            <a:ext cx="144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E4FE-5151-4DCE-9B64-A97DC77F5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PT 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523880" y="6244920"/>
            <a:ext cx="1524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7467120" y="6244920"/>
            <a:ext cx="121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7AC4-74DA-4337-B05B-AD07FF99A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opm.gov/WIKI/training/Performance-Management.ashx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ru.gov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aining, Development &amp; Performance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equirements, Tools and Best Pract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st Practices: NRC Supervisory  Development Progr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99840" y="1447560"/>
            <a:ext cx="7086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 approach – each level builds on competencies in the preceding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 of open, competitive, assigned, mandatory and elective courses and curric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structured at lower levels, and more flexible/tailored at higher levels of positional leade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ervisory Development Progr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RC and NIH 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ttp://www.youtube.com/watch?v=udTwHjNu6iE&amp;feature=relmfu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ols: Training &amp; Development Wik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opm.gov/WIKI/training/Performance-Management.ash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ining &amp; Performance Manag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ic appraisal system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ining cour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ining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ols: Training &amp; Development Wik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bca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reau of Indian Affairs (June 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PA: Logic Modeling Essentials (July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H Supervisory Training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RC Supervisory Development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quirements: 5 CFR 41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lanning and evaluating trai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10.201—ensure achievement of performance goals and facilitate continuous impro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10.202—evaluate training programs annually to ensure accomplishment of mission and organizational performance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quirements: 5 CFR 41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600200" y="12189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12.201—Management succe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ngthen organizational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12.202—Systematic training of supervisors, managers an executiv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stent with individual and organizational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12.401—Continuing executive developme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ngthen executive’s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ols: HR Univers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99840" y="13716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ru.gov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nager’s Cor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ice of the Director of National Intellige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M Course: Writing good performance objectiv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urse Catalog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NI -- Performance Management Cyc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4800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ocus on people more than system changes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nhance manager-employee communication and aspects of their relationship that are foundational for effective performance manag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 managers and employees on how to engage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ffective performance manag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rs and employees shoul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el ownership of and appreciate performance management and its critical role in accomplishing 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ability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verage the benefits and protections built into the performance management syst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DNI Cour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DNI Cour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verview of Performance Manag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ading Your Mi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ach For Suc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tting Performance Expect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riting Performance Objectiv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naging Your Manag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utting Yourself in Other People’s Sho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riting Effective Accomplish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Rate Performance and Write an Effective Narr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al Feedback Re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ing Discrimination and Bias for Mana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ing Discrimination and Bias for Le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s of Performance Manageme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this is Employee training associated with Managers/Leaders “Avoiding Discrimination and Bias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DNI Cour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st Practices: NIH Supervisory Progr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-person worksho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essment too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tion plans &amp; implem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dividual coac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17:44:30Z</dcterms:created>
  <dc:creator>cndunguru</dc:creator>
  <dc:description/>
  <dc:language>en-US</dc:language>
  <cp:lastModifiedBy>cndunguru</cp:lastModifiedBy>
  <dcterms:modified xsi:type="dcterms:W3CDTF">2012-06-12T12:54:12Z</dcterms:modified>
  <cp:revision>43</cp:revision>
  <dc:subject/>
  <dc:title>Hit the Ground Running</dc:title>
</cp:coreProperties>
</file>